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54A-9948-4F70-ADF4-2D2C5DD5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58C-1FC7-442E-B0CB-3168E9BA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CB4-7576-423B-B0D2-77E6DE10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656-6A1C-4DD6-9307-16ED2962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52DE-96A7-4BA9-AA62-07EC33BE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9D5A-9434-4C4D-848E-33B372CF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793B-3174-4B64-B0D3-FB8B5905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510F-F93F-452B-98D1-043384A0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FAEC-70E3-4D45-9E3E-6333A545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57AC-3EE3-45F4-B338-D833AD20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A9FB-5BC2-406E-82E6-1A7262E4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443-941F-4D45-82B0-EED3A460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6149-46EE-4011-9953-B0C2A088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C57E-8423-4ADF-94C1-46CA2E93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43C5-5E99-4569-A752-C748140F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BEE6-D586-4C22-B99E-63933236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8E04-3E84-4A62-8DA9-D73B9D7A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5305-DED8-4C5A-A614-6A1DBD2E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7F37-3A4B-4989-BEAA-3A26E78F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7EB9-E08E-47A0-BDDA-BDC030D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7C24-25EE-4D21-B4D2-217213EB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8AC7-6116-454A-8021-1114E8EE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932-ED3E-4970-8A92-1C77E88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E1C1-DED9-432C-8CC4-1B022E6C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7C18-9D33-46D4-AE2A-BCDD17A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3449-BD92-4A1F-B39F-B9B80ACE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2A89-591A-4ED5-9549-B06E6CA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1809-F06B-478B-8516-504D816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AEE5-2CCF-42EF-8FDE-75EA6297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3930-EF29-441F-A122-0FEDF688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BCE7-6948-49B9-B9D2-1B8F41C9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A65A-C0E1-4C7F-BFD0-A1FB2806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F382-694A-4F1F-ACBB-EEBC2129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25C-A140-4DAE-A9B7-A83AC919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18E5-1D5C-4912-B15B-EAE97029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92E60-CAED-4EB0-8AC5-13814992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2A799-9083-4C65-968C-C06C2B69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2821A-960C-4F2C-8A7A-AE42356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36603-B532-4685-A1B4-B5A6B8E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78A0-0B8D-4CE3-A9AD-D99FFBA4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802F-BD8D-4A6C-BE19-596B5B05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03BB-9E5B-42D0-8D0F-F28D1171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55D81-8EC1-4B1C-BBAB-3E3F3A75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DD0EF-34F4-4898-85BE-1C830BE3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723-DC7B-4AA5-B324-D38BE27D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DF735-3C22-47F4-A3D5-DDA3C225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4727-DD44-47F2-91EA-52E2214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BBFA7-D756-45F8-904C-0B4C90A5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06C2-9791-4E37-9920-5054548D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522C6-AF1E-4921-998E-32E77053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E8D84-5AB8-482C-9549-89184DC9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FC8E-2C73-43DC-A917-60459A3F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97F4F-78E9-4CA1-95F4-F8D947C3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111B-3E55-4D37-8CCE-936796BA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A6C45-6D91-4D46-B5B2-409973B1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6DE-1544-4084-8AF6-65A96425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669CA-CF1A-4212-B6CC-DAEB8F99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363CD-26E9-4330-92EC-20A8C481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067B0-87C8-449C-BA32-B5367E09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1E302-8020-46A0-8B72-64FAB806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9EA2-3964-480B-8F4B-AA0097EC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F636A-5DF8-4D02-933D-1EAF207C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000A3-6515-4943-BCF1-C0298F7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7AA8-0041-43E7-99FE-0762D4BC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35A17-6C01-4843-B18D-CC67E45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C40A5-8784-4B2C-A385-30B5DE29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BC4-1797-47E9-BD30-84DB36B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9AC3C-9EEE-4215-B517-C4ED18C2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DC42D-033D-4302-A790-2087874C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09680-1456-415E-895D-ECC842CC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8219-3745-4DE1-B574-21EECF87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1336C-6E75-4E75-B50A-F7197694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9F1A-C13A-4240-9061-5F829ADC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B33A0-342E-4019-98BE-CBE2E7C7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9A3AE-4D84-4857-B9AE-C738241B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B4C7-B4A2-4B54-892B-1665E38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3112-B690-43BA-BB12-6A4DA642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D05-3221-4E62-8AAE-3679E221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0AAAB-6DCA-4D41-AB2C-7A54133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CA4AE-0F11-4B0A-9BB3-0FC889F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C9C66-7309-4507-8424-77B486BD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4F80-FE79-486C-9911-B5E5E8C6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E5C52-8019-4427-9CFD-883EE569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096-871C-4E69-A6CD-3F042DDC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8346-0FEB-42B1-874A-B0C8DC463D3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2E3A-5B6C-4A5E-B122-45C4DBD604A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7EBD-CD32-45F8-8D87-772A893B89E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3AF3-D37E-4BB4-BA49-E1AC40540A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E8AF-1AA0-45ED-98CB-54DCD8ADB5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950D-1D33-44AB-B3DA-127011294ED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CA07-4CF2-4C08-8741-B76C91A72E9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Reproductive Syste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3257640" cy="2666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men also contains protective seminal flu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duced by seminal vesicles, prostate and bulboureth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ains nutrients to both sustain the sperm, and protect it from the hostile, acidic environment of female reproductive tr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emale Reproduc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mary functions are to produce ova (eggs) and to nourish a developing embry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 can only happen after puber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varies respond to FSH to produce estr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in production of the ova each mon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7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gg Develop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0666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ch ovary contains  thousands of immature eggs surrounded by primary follicle (cluster of small cell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ery 28 days, FSH stimulates the growth of one, and will eventually go through meio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the end, only one daughter cell will be via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three, called polar bodies, are much smaller, and will disinteg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5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will be produced for 30-40 ye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inues until menopause (by definition, after a woman had gone 12 months without a perio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89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gg Rele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ure egg is released from follicle and ovary in process called ovu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sses into one of the two Fallopian tub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is when a female can become pregna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ves through tube, shuttled by cil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ches uterus after a few days, where a fertilized egg can impl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o egg is fertilized, menstration can beg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736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exual Rep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 we all know, humans reproduce sexual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implies two different sexes, with unique structures and hormo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both sexes appear the same for the first six weeks as embry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438280" y="609480"/>
            <a:ext cx="48006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uring week 7, sexual differentiation occu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stes and ovaries devel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stosterone develops the male reproductive organs, estrogen develops female reproductive org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xt major change is during puber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productive systems become mature and fully functio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set of puberty dependant on endocrine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pothalamus releases gonadotropin-releasing hormone (GnRH), to pituitary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retes follicle-stimulating hormone (FSH) and luteinizing hormone (LH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imulate development of sexual orga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le Reproduc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uring puberty,  both FSH and LH stimulate testes to produce testoster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SH and testosterone stimulate sperm produ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oduction and release of this sperm is the primary purpose of the male reproductive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rm are produced in seminiferous tubules in tes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stes will typically drop into the scrotum just before or after bir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crotum holds the testes away from the body, lowering the temperature a few degrees from the 37° C avera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temperature is important for the development of spe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78168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rm Development / Struct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de during meiosis (hence they are haploi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duced in the millions per 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ce they are made, moved to the epididym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d he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ves up to vas deferens, which eventually merge with the ureth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th sperm and semen leave the body he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1:49:09Z</dcterms:created>
  <dc:creator>ED18</dc:creator>
  <dc:description/>
  <dc:language>en-US</dc:language>
  <cp:lastModifiedBy>ED18</cp:lastModifiedBy>
  <dcterms:modified xsi:type="dcterms:W3CDTF">2012-05-28T10:33:47Z</dcterms:modified>
  <cp:revision>5</cp:revision>
  <dc:subject/>
  <dc:title>The Reproductive Systems</dc:title>
</cp:coreProperties>
</file>